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E9BB3-954F-4D23-BFC8-CCAD9A7CA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72AEE-E175-4EAD-8645-13008A85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E12A4-E7F0-479E-B1BA-5EF0F87F4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73F28-2E2A-41DF-B6C4-480E26965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8736-A573-4668-8093-643597C27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FA37-3F00-4AE1-8269-8283649B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A0C95-E3DA-4022-9FE1-6F603808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82E4-CC2A-47EE-8A39-D421EBBB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9BA7-E014-4C1F-81B2-78CA3126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C6AB-9B1B-4D4B-B163-465CD9B5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7B4A-28AC-448E-8D1B-8BF74198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A627C-E251-40C6-9A06-95BFFE26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6AB19-6C53-4F65-84CE-5AF85171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D4BA-4DA8-42AC-AC8B-63EC6EB2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6400-58BA-4C76-8322-E1161944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F375-D213-421B-9D4C-C82250CAF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D2E6-A72C-4644-B460-835F636C9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23A14-6A2D-452C-9BB5-C7660B3D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7E883-625B-43CC-8F59-89999D29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BE083-0719-4566-8F1B-746D69BD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34011-CC68-452B-9634-0FC5C5BA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E1EFF-264E-4558-B6F8-6F3D08A9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51909-0449-494C-89F1-F01B899E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897B8-D868-463E-B1EA-2EB7BBF8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f1f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1416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1416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232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b3b58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2324b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1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1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1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1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1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2E20-B474-4843-B210-642252630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2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f1f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1416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1416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232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b3b58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2324b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8283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8283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8283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8283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b3b5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b3b5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8283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005E-6090-411B-A1F7-E473C25C45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hyperlink" Target="http://www.firstworldwar.com/source/blankcheque.htm" TargetMode="External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2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auses of WW I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litarism and Imperialism/ Nationa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U Bo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06 German’s produce First U bo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jected an idea to blockade the British Isles with U boats assumed war would be over to so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2 used in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Picture 4" descr="p81i"/>
          <p:cNvPicPr/>
          <p:nvPr/>
        </p:nvPicPr>
        <p:blipFill>
          <a:blip r:embed="rId4"/>
          <a:stretch/>
        </p:blipFill>
        <p:spPr>
          <a:xfrm>
            <a:off x="4648320" y="2529000"/>
            <a:ext cx="4038480" cy="267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68436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British Dreadnough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Picture 8" descr=""/>
          <p:cNvPicPr/>
          <p:nvPr/>
        </p:nvPicPr>
        <p:blipFill>
          <a:blip r:embed="rId1"/>
          <a:stretch/>
        </p:blipFill>
        <p:spPr>
          <a:xfrm>
            <a:off x="333360" y="1600200"/>
            <a:ext cx="4162320" cy="4495680"/>
          </a:xfrm>
          <a:prstGeom prst="rect">
            <a:avLst/>
          </a:prstGeom>
          <a:ln w="0">
            <a:noFill/>
          </a:ln>
        </p:spPr>
      </p:pic>
      <p:sp>
        <p:nvSpPr>
          <p:cNvPr id="537" name="Rectangle 9"/>
          <p:cNvSpPr/>
          <p:nvPr/>
        </p:nvSpPr>
        <p:spPr>
          <a:xfrm>
            <a:off x="4572000" y="17002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no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readnough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uge 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g gu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ublic Reac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nsive Endeav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rman Belief that Naval Fleet was a strong and admirable pursuit for a 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ish Battle C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e want eight and we won’t wai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nted Dreadnaugh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Picture 4" descr="mso2A422"/>
          <p:cNvPicPr/>
          <p:nvPr/>
        </p:nvPicPr>
        <p:blipFill>
          <a:blip r:embed="rId1"/>
          <a:stretch/>
        </p:blipFill>
        <p:spPr>
          <a:xfrm rot="287400">
            <a:off x="461880" y="525240"/>
            <a:ext cx="7954920" cy="59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Disarmament Talk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ague Peace Conferences (1899 &amp; 1907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ust an attemp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me succes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umdum bullets were bann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llets which Flattened or expanded in the 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chlieffen Plan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rmany Facing a two front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 to destroy who ever mobilized first then regrou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ision to destroy France Fir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er Ar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ster to mobil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 through Belgium to access F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"/>
          <p:cNvPicPr/>
          <p:nvPr/>
        </p:nvPicPr>
        <p:blipFill>
          <a:blip r:embed="rId1"/>
          <a:stretch/>
        </p:blipFill>
        <p:spPr>
          <a:xfrm>
            <a:off x="533520" y="353880"/>
            <a:ext cx="8229600" cy="626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3" descr="KISH536"/>
          <p:cNvPicPr/>
          <p:nvPr/>
        </p:nvPicPr>
        <p:blipFill>
          <a:blip r:embed="rId1"/>
          <a:stretch/>
        </p:blipFill>
        <p:spPr>
          <a:xfrm>
            <a:off x="2195640" y="404640"/>
            <a:ext cx="50306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ere the Flaws in the pla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y would be named an aggr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olating Belgian Neutrality due to French forces conglomerated on the Rhine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ving A.H to fend for themselves against the Serbs for a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Balkan Crisi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ustria-Hungary annexed Bosnia- Herzegovina (1908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rbia angered mobilized troop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ussian angered, b/c not consult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 war…ye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mperialism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roccan Crises (1905 &amp; 191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nsion between Germ. &amp; F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rmany Declared support for an independent Moroc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attempt to Frustrate Fren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eak up French English Al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irst Balkan War (1912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reece, Bulgaria, Serbia, and Montenegro fight against Turk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cond Balkan War (1913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rbia, Montenegro, Greece, Rumania and Turkey fight against Bulga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oth of these wars created more tension between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urkey and Balkan countri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ustria-Hungary and Serb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ermany and Russ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2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NATIONALISM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NAL “ISM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ssues with Nationalism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ism ignored in favor of peace during the Congress of Vien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rmany/Italy being left as divided stat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thought the war would be short and with a decisive vi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Supported their Gover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ationalism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up of 50 mill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 then Half of its population was Austro or Hungari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avs ( most vocal/ Restl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ova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al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zec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5" name="Picture 4" descr="balkan_states_1899"/>
          <p:cNvPicPr/>
          <p:nvPr/>
        </p:nvPicPr>
        <p:blipFill>
          <a:blip r:embed="rId1"/>
          <a:stretch/>
        </p:blipFill>
        <p:spPr>
          <a:xfrm>
            <a:off x="250920" y="-747720"/>
            <a:ext cx="8496360" cy="76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e Plot thicke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avs Wanted to join with Serb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 A United Slavic King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rkey has Intere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ssia has interes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stria Hungary has intere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est issue could trigger total war: The powder ke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2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Assassination of Franz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hot heard Around the Wor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0" name="MacOS" descr=""/>
          <p:cNvPicPr/>
          <p:nvPr/>
        </p:nvPicPr>
        <p:blipFill>
          <a:blip r:embed="rId1"/>
          <a:stretch/>
        </p:blipFill>
        <p:spPr>
          <a:xfrm>
            <a:off x="1547640" y="5373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5869" fill="hold"/>
                                        <p:tgtEl>
                                          <p:spTgt spid="5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The shot that was heard around the worl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avrilo Princ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lack H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bian Nationalist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3" name="Picture 4" descr=""/>
          <p:cNvPicPr/>
          <p:nvPr/>
        </p:nvPicPr>
        <p:blipFill>
          <a:blip r:embed="rId3"/>
          <a:stretch/>
        </p:blipFill>
        <p:spPr>
          <a:xfrm>
            <a:off x="4813200" y="1684440"/>
            <a:ext cx="373536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75" name="Picture 4" descr="mapofsarajevo"/>
          <p:cNvPicPr/>
          <p:nvPr/>
        </p:nvPicPr>
        <p:blipFill>
          <a:blip r:embed="rId1"/>
          <a:stretch/>
        </p:blipFill>
        <p:spPr>
          <a:xfrm>
            <a:off x="0" y="0"/>
            <a:ext cx="9144000" cy="70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4" descr="africa"/>
          <p:cNvPicPr/>
          <p:nvPr/>
        </p:nvPicPr>
        <p:blipFill>
          <a:blip r:embed="rId1"/>
          <a:stretch/>
        </p:blipFill>
        <p:spPr>
          <a:xfrm>
            <a:off x="468360" y="-79200"/>
            <a:ext cx="7848720" cy="693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Archduke Franz Ferdinand &amp; his wif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79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5" descr="Picture1"/>
          <p:cNvPicPr/>
          <p:nvPr/>
        </p:nvPicPr>
        <p:blipFill>
          <a:blip r:embed="rId1"/>
          <a:stretch/>
        </p:blipFill>
        <p:spPr>
          <a:xfrm>
            <a:off x="992160" y="811080"/>
            <a:ext cx="715824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Chain Reac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ustria-Hungary’s “ultimatum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bia rejects any violation of its sovereignt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.H. refuses to go the World Court in The Hag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litarists in Germany and A.H. wanted wa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rmany’s “blank cheque” </a:t>
            </a:r>
            <a:r>
              <a:rPr b="0" lang="en-US" sz="1000" spc="-1" strike="noStrike" u="sng">
                <a:solidFill>
                  <a:srgbClr val="9999ff"/>
                </a:solidFill>
                <a:uFillTx/>
                <a:latin typeface="Arial"/>
                <a:hlinkClick r:id="rId6"/>
              </a:rPr>
              <a:t>http://www.firstworldwar.com/source/blankcheque.ht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e Ultimatum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p All Anti Austria Hungarian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al All officials guilty of carrying out anti Austrian senti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Austria Hungary to Conduct its own investi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ent the Smuggling of weapons across common b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Explanations for Serbians officials Home and Abroad that express Hostility towards 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rance gives assurances to Russ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ermany is alarmed…two front wa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ermany wanted to access Belgium, issues an Ultimatu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elgium’s neutrality was guaranteed by Britai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war is on by August 3, 19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lgeçiras Conference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erence in 1906 in Algercir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ion of What to Happen in Moroc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ain Supports Fre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iance Str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2" descr="imag0129"/>
          <p:cNvPicPr/>
          <p:nvPr/>
        </p:nvPicPr>
        <p:blipFill>
          <a:blip r:embed="rId1"/>
          <a:stretch/>
        </p:blipFill>
        <p:spPr>
          <a:xfrm>
            <a:off x="638280" y="938160"/>
            <a:ext cx="786744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2" name="Picture 4" descr="Algerciraz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ar averte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occo to be independ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nce to be responsible to internal 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sis to Reignite in 19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Warship the Panther to Agadir sent to protect German Nationals against possible native upri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Actual Germans in the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n As SABRE RATTL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Attempt to Assert German Power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eltpoliti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ame given towards Germany’s move towards global stature after 189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aggressive foreign policy (se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ealpoliti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iser to attempt to intervene in several international affai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occan Cr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intervention in the Japan Korea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vention into Armenian massac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aval Race for the Seas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of Kaiser Wilhelm’s key id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med at Challenging Brit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 to build a fleet 2/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ize of Brit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ong with base in North to neutralize a British thr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British Reactio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ish Ships called H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d Capacity to out build the Germ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power standa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ility to Defeat two of the largest battle fleets comb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 Japanese look after their Asian interests in return for attempting to moderate attitudes towards the Japane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01:58:47Z</dcterms:created>
  <dc:creator> Cheryl Hanson</dc:creator>
  <dc:description/>
  <dc:language>en-US</dc:language>
  <cp:lastModifiedBy>MacAdmin Kis</cp:lastModifiedBy>
  <dcterms:modified xsi:type="dcterms:W3CDTF">2009-02-11T01:41:22Z</dcterms:modified>
  <cp:revision>18</cp:revision>
  <dc:subject/>
  <dc:title>Causes of WW I</dc:title>
</cp:coreProperties>
</file>